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8.jpeg" ContentType="image/jpeg"/>
  <Override PartName="/ppt/media/image45.png" ContentType="image/png"/>
  <Override PartName="/ppt/media/CAMERA.WAV" ContentType="audio/x-wav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15.jpeg" ContentType="image/jpeg"/>
  <Override PartName="/ppt/media/image64.png" ContentType="image/png"/>
  <Override PartName="/ppt/media/image47.png" ContentType="image/png"/>
  <Override PartName="/ppt/media/image1.jpeg" ContentType="image/jpeg"/>
  <Override PartName="/ppt/media/image49.jpeg" ContentType="image/jpeg"/>
  <Override PartName="/ppt/media/image30.png" ContentType="image/png"/>
  <Override PartName="/ppt/media/image67.png" ContentType="image/png"/>
  <Override PartName="/ppt/media/image57.png" ContentType="image/png"/>
  <Override PartName="/ppt/media/image20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6.wmf" ContentType="image/x-wmf"/>
  <Override PartName="/ppt/media/image75.wmf" ContentType="image/x-wmf"/>
  <Override PartName="/ppt/media/image35.png" ContentType="image/png"/>
  <Override PartName="/ppt/media/image27.png" ContentType="image/png"/>
  <Override PartName="/ppt/media/image74.wmf" ContentType="image/x-wmf"/>
  <Override PartName="/ppt/media/image12.jpeg" ContentType="image/jpeg"/>
  <Override PartName="/ppt/media/image34.png" ContentType="image/png"/>
  <Override PartName="/ppt/media/image26.png" ContentType="image/png"/>
  <Override PartName="/ppt/media/image17.jpeg" ContentType="image/jpeg"/>
  <Override PartName="/ppt/media/image63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16.png" ContentType="image/png"/>
  <Override PartName="/ppt/media/image7.jpeg" ContentType="image/jpe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2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38.jpeg" ContentType="image/jpeg"/>
  <Override PartName="/ppt/media/image72.png" ContentType="image/png"/>
  <Override PartName="/ppt/media/image10.jpeg" ContentType="image/jpe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9.jpeg" ContentType="image/jpeg"/>
  <Override PartName="/ppt/media/image11.png" ContentType="image/png"/>
  <Override PartName="/ppt/media/image36.png" ContentType="image/png"/>
  <Override PartName="/ppt/media/image9.jpeg" ContentType="image/jpeg"/>
  <Override PartName="/ppt/media/image13.png" ContentType="image/png"/>
  <Override PartName="/ppt/media/image3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7289-480C-42EC-9F81-2F6F9CEFD1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B44-A10F-4141-858E-882B81523BB1}" type="datetime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745-487C-4CB2-B8CE-5B9782F405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ED6E-CF5F-4597-B090-3B25C9216E8C}" type="datetime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A8B1-DD31-4EE2-AD83-6DFF2ADA8C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C82-56B1-4630-9EC9-0F51BCEB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3DB-945B-45C0-9437-ABDAEFC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E54-2C06-4052-A1A5-DDEA8C94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EA9-08A9-45EC-BFDC-DD881CB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FD5-9300-4A99-9257-9C7E910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D46-2E93-44B5-9135-A23564D3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8AE-4F6A-4400-9C50-E9337F8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A3F-2E5D-4C6B-AE42-24E0969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870-0120-407E-8EA6-8F59273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50D-501E-4575-A7D1-E2B1D1B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7B1-A3FC-43C0-A946-D8AD399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AE9-61B3-435B-909D-8E032EE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555-1EDD-403F-9594-AFEA8F9304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aadia.pr.gov.br/tvpendrive/arquivos/File/imagens/4quimica/3carbono.jpg&amp;imgrefurl=http://www.diaadia.pr.gov.br/tvpendrive/modules/mylinks/viewcat.php%3Fcid%3D16%26min%3D520%26orderby%3DdateA%26show%3D10&amp;usg=__yJtmD-cO6ot1C2W56QMUIEO8RUA=&amp;h=480&amp;w=720&amp;sz=20&amp;hl=pt-BR&amp;start=5&amp;um=1&amp;itbs=1&amp;tbnid=3C3my1Bhgmfp4M:&amp;tbnh=93&amp;tbnw=140&amp;prev=/images%3Fq%3Delemento%2Bquimico%2Bcarbono%26um%3D1%26hl%3Dpt-BR%26rls%3Dcom.microsoft:pt-br:IE-SearchBox%26rlz%3D1I7ADBF_pt-BR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tabela.oxigenio.com/images/elemento_quimico_carbono.jpg&amp;imgrefurl=http://tabela.oxigenio.com/nao_metais/elemento_quimico_carbono.htm&amp;usg=__QpasWYYqKJNSFl0PjXyfK3iHu7A=&amp;h=124&amp;w=87&amp;sz=4&amp;hl=pt-BR&amp;start=1&amp;um=1&amp;itbs=1&amp;tbnid=G4-zASo-TLXPBM:&amp;tbnh=90&amp;tbnw=63&amp;prev=/images%3Fq%3Delemento%2Bquimico%2Bcarbono%26um%3D1%26hl%3Dpt-BR%26rls%3Dcom.microsoft:pt-br:IE-SearchBox%26rlz%3D1I7ADBF_pt-BR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cs.br/ccet/defq/naeq/materialdidatico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ímica Orgâ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rodução: Química Orgânica é o ramo da química que estuda os composto que contêm carbono, chamado compostos orgâ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://t2.gstatic.com/images?q=tbn:3C3my1Bhgmfp4M:http://www.diaadia.pr.gov.br/tvpendrive/arquivos/File/imagens/4quimica/3car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4214880"/>
            <a:ext cx="311940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t3.gstatic.com/images?q=tbn:G4-zASo-TLXPBM:http://tabela.oxigenio.com/images/elemento_quimico_carbo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3571920"/>
            <a:ext cx="1845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ceito atu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353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É um ramo da Química que estuda os compostos do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lemento carbono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, denominados compostos orgân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5800" y="2205000"/>
            <a:ext cx="40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Química orgân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Veja uma relação dos melhores sites de Química da Web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6028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2083 -1.11111E-006 E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ortante: Esse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 um pequeno grupo de compostos que contém carbono, mas são estudados na química inorgânica por não apresentarem certas características comuns aos compostos orgânicos. São os chamados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mpostos de transi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 Como exempl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NO – Cianato de amôn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– Gás carbôni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CN – ácido cianíd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priedades gera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po de liga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os compostos orgânicos são moleculares (ligações covalentes), sem carga (íons). Por isso os compostos orgânicos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ão são bons condutor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 eletrólitos (eletricidade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3311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F, PE e Estabilidade térmi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Apresentam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aixos PF e P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(por serem moleculares) com atração entre suas moléculas reduzida, devido a ausência de cargas elétr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çúcar é orgânico e 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l é inorgânico e apresenta maior estabilidade térmi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uma vez que o açúcar derrete faci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kecap-manis_4"/>
          <p:cNvPicPr/>
          <p:nvPr/>
        </p:nvPicPr>
        <p:blipFill>
          <a:blip r:embed="rId1"/>
          <a:stretch/>
        </p:blipFill>
        <p:spPr>
          <a:xfrm>
            <a:off x="5076720" y="4149720"/>
            <a:ext cx="3529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velocidade de rea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os compostos orgânicos é lenta, e geralmente necessitam de catalisadores. Como exemplo: a hidrogenação de óleos, que melhora a estabilidade do óleo e modifica a sua tex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hidrogenação completa modifica a textura do óleo endurecendo-o para produzir a margar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Hidrogenacao"/>
          <p:cNvPicPr/>
          <p:nvPr/>
        </p:nvPicPr>
        <p:blipFill>
          <a:blip r:embed="rId1"/>
          <a:stretch/>
        </p:blipFill>
        <p:spPr>
          <a:xfrm>
            <a:off x="5435640" y="4149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bilidade: A maioria dos compostos orgânicos é pouco solúvel ou insolúvel em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470320" cy="4176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42920" y="3284640"/>
            <a:ext cx="431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mãos sujas de graxa devem ser lavadas em solvente orgânico: Gaso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476280"/>
            <a:ext cx="8534520" cy="62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Fibras sintéticas, alimentos, cosméticos, medicamentos e combustíveis são alguns dos produtos que envolvem milhões de substâncias em que o principal componente é o mais extraordinário dos elementos químicos, 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00"/>
                </a:solidFill>
                <a:latin typeface="Comic Sans MS"/>
              </a:rPr>
              <a:t>Carbono</a:t>
            </a: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Tipos  de carbo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1500120"/>
            <a:ext cx="8839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1 o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, no máximo, a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outro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2 o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   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737373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3 o    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b0f0"/>
                </a:solidFill>
                <a:latin typeface="Times New Roman"/>
              </a:rPr>
              <a:t>4 o     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00b0f0"/>
                </a:solidFill>
                <a:latin typeface="Times New Roman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Tipos de Carbo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205740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  H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H   H  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H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-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</a:t>
            </a:r>
            <a:r>
              <a:rPr b="0" lang="pt-BR" sz="3600" spc="-1" strike="noStrike">
                <a:solidFill>
                  <a:srgbClr val="00b0f0"/>
                </a:solidFill>
                <a:latin typeface="Century Schoolbook"/>
              </a:rPr>
              <a:t>-  C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C  -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 H 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H     H    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tângulo 2"/>
          <p:cNvSpPr/>
          <p:nvPr/>
        </p:nvSpPr>
        <p:spPr>
          <a:xfrm>
            <a:off x="428760" y="1785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os carbono 1º, 2º, 3º 4º existem na molécula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3071880"/>
            <a:ext cx="6578640" cy="335736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4"/>
          <p:cNvSpPr/>
          <p:nvPr/>
        </p:nvSpPr>
        <p:spPr>
          <a:xfrm>
            <a:off x="5715000" y="2071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primá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, 7, 8, 9, 10, 12 e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secund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e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terci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, 4 e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quatern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8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ompostos orgânicos estão presentes em nossa vida diá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31" descr="Alcool%2070"/>
          <p:cNvPicPr/>
          <p:nvPr/>
        </p:nvPicPr>
        <p:blipFill>
          <a:blip r:embed="rId1"/>
          <a:stretch/>
        </p:blipFill>
        <p:spPr>
          <a:xfrm>
            <a:off x="1619280" y="1916280"/>
            <a:ext cx="2087640" cy="34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3" descr="vin_galo_branco"/>
          <p:cNvPicPr/>
          <p:nvPr/>
        </p:nvPicPr>
        <p:blipFill>
          <a:blip r:embed="rId2"/>
          <a:stretch/>
        </p:blipFill>
        <p:spPr>
          <a:xfrm>
            <a:off x="5076720" y="1916280"/>
            <a:ext cx="208908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34"/>
          <p:cNvSpPr/>
          <p:nvPr/>
        </p:nvSpPr>
        <p:spPr>
          <a:xfrm>
            <a:off x="1042920" y="53737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lcool Com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5"/>
          <p:cNvSpPr/>
          <p:nvPr/>
        </p:nvSpPr>
        <p:spPr>
          <a:xfrm>
            <a:off x="4427640" y="5373720"/>
            <a:ext cx="30970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ina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0.gstatic.com/images?q=tbn:zsHI7NzZUWuKnM:http://download.ultradownloads.com.br/wallpaper/47529_Papel-de-Parede-Cadeia-Carbonica_1440x900.jpg"/>
          <p:cNvPicPr/>
          <p:nvPr/>
        </p:nvPicPr>
        <p:blipFill>
          <a:blip r:embed="rId1"/>
          <a:stretch/>
        </p:blipFill>
        <p:spPr>
          <a:xfrm>
            <a:off x="214200" y="428760"/>
            <a:ext cx="4218120" cy="2643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adeia Carbô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a estrutura formada por todos os átomos de carbono de uma molécula orgânica e também pelos heteroátomos que estejam posicionados entre carbo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g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que heteroátomos possa estar entre carbonos é necessário que ele faça pelo menos duas lig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14200" y="2071800"/>
            <a:ext cx="4175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Indica apenas os elementos que formam o composto número de átomos de cada ele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tângulo 3"/>
          <p:cNvSpPr/>
          <p:nvPr/>
        </p:nvSpPr>
        <p:spPr>
          <a:xfrm>
            <a:off x="4071960" y="2571840"/>
            <a:ext cx="45720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5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611280" y="2876400"/>
            <a:ext cx="32464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estrutural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Indica a distribuição plana dos átomos que formam 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143080" y="2571840"/>
            <a:ext cx="799308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Etano"/>
          <p:cNvPicPr/>
          <p:nvPr/>
        </p:nvPicPr>
        <p:blipFill>
          <a:blip r:embed="rId1"/>
          <a:stretch/>
        </p:blipFill>
        <p:spPr>
          <a:xfrm>
            <a:off x="4735440" y="3940200"/>
            <a:ext cx="2760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11280" y="3400560"/>
            <a:ext cx="438948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estrutural plana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A quantidade de hidrogênios ligados aos carbonos são escritos na forma de índ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tângulo 4"/>
          <p:cNvSpPr/>
          <p:nvPr/>
        </p:nvSpPr>
        <p:spPr>
          <a:xfrm>
            <a:off x="4572000" y="364320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3500280"/>
            <a:ext cx="701028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 Carbono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453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3640" y="609120"/>
            <a:ext cx="3454560" cy="584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Friedrich August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Kekulé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von Stradonitz foi um químico alemão. Em 1857, ele determinou as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racterísticas fundamentais do átomo de carbon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nos compos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30" descr="kekule2.jpg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carbono é tetra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838080" y="1828800"/>
          <a:ext cx="23814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2381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4"/>
          <p:cNvSpPr/>
          <p:nvPr/>
        </p:nvSpPr>
        <p:spPr>
          <a:xfrm>
            <a:off x="3886200" y="1905120"/>
            <a:ext cx="4933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o primeiro postulado de Kekulé, que atribui ao carbono a possibilidade de quatro lig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estrutura ao lado representa o compo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1"/>
          <p:cNvGraphicFramePr/>
          <p:nvPr/>
        </p:nvGraphicFramePr>
        <p:xfrm>
          <a:off x="990720" y="380880"/>
          <a:ext cx="24573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24573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5410080" y="609480"/>
          <a:ext cx="237168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23716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3"/>
          <p:cNvGraphicFramePr/>
          <p:nvPr/>
        </p:nvGraphicFramePr>
        <p:xfrm>
          <a:off x="1066680" y="3276720"/>
          <a:ext cx="23432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276720"/>
                    <a:ext cx="2343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4"/>
          <p:cNvGraphicFramePr/>
          <p:nvPr/>
        </p:nvGraphicFramePr>
        <p:xfrm>
          <a:off x="5486400" y="3429000"/>
          <a:ext cx="2276640" cy="248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429000"/>
                    <a:ext cx="22766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9"/>
          <p:cNvSpPr/>
          <p:nvPr/>
        </p:nvSpPr>
        <p:spPr>
          <a:xfrm flipH="1" flipV="1">
            <a:off x="2819520" y="83808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743200" y="50292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 flipV="1">
            <a:off x="7619760" y="2209320"/>
            <a:ext cx="228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 flipV="1">
            <a:off x="4572000" y="48769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6019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quatro valências são iguais entre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809880" y="2514600"/>
            <a:ext cx="2514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 Carbono forma ligações múltip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2362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4191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DU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7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TRI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876760" cy="196236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305080" cy="1476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7" descr=""/>
          <p:cNvPicPr/>
          <p:nvPr/>
        </p:nvPicPr>
        <p:blipFill>
          <a:blip r:embed="rId3"/>
          <a:stretch/>
        </p:blipFill>
        <p:spPr>
          <a:xfrm>
            <a:off x="3200400" y="5486400"/>
            <a:ext cx="2952720" cy="790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468360" y="270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Si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4581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Uma sigma outra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6021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Par sigma e outra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etroleo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042920" y="566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etróleo e seus deriv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Carbono forma cade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76760" cy="196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Object 9"/>
          <p:cNvGraphicFramePr/>
          <p:nvPr/>
        </p:nvGraphicFramePr>
        <p:xfrm>
          <a:off x="4495680" y="1905120"/>
          <a:ext cx="3772080" cy="15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905120"/>
                    <a:ext cx="377208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10"/>
          <p:cNvGraphicFramePr/>
          <p:nvPr/>
        </p:nvGraphicFramePr>
        <p:xfrm>
          <a:off x="2133720" y="3962520"/>
          <a:ext cx="620064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962520"/>
                    <a:ext cx="6200640" cy="2590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tipos de cadeia orgânica: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Quanto ao fechamento da cad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7"/>
          <p:cNvGraphicFramePr/>
          <p:nvPr/>
        </p:nvGraphicFramePr>
        <p:xfrm>
          <a:off x="838080" y="251460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8"/>
          <p:cNvGraphicFramePr/>
          <p:nvPr/>
        </p:nvGraphicFramePr>
        <p:xfrm>
          <a:off x="6019920" y="3505320"/>
          <a:ext cx="265752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505320"/>
                    <a:ext cx="2657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9"/>
          <p:cNvSpPr/>
          <p:nvPr/>
        </p:nvSpPr>
        <p:spPr>
          <a:xfrm>
            <a:off x="51814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íclica ou ab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895480" y="5029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íclica ou fechada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anto à disposição dos átom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0"/>
          <p:cNvGraphicFramePr/>
          <p:nvPr/>
        </p:nvGraphicFramePr>
        <p:xfrm>
          <a:off x="838080" y="190512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51814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"/>
          <p:cNvGraphicFramePr/>
          <p:nvPr/>
        </p:nvGraphicFramePr>
        <p:xfrm>
          <a:off x="0" y="4191120"/>
          <a:ext cx="620064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6200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9"/>
          <p:cNvSpPr/>
          <p:nvPr/>
        </p:nvSpPr>
        <p:spPr>
          <a:xfrm>
            <a:off x="54100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am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Quanto aos tipos de ligaçõ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838080" y="190512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51814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410080" y="5029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"/>
          <p:cNvGraphicFramePr/>
          <p:nvPr/>
        </p:nvGraphicFramePr>
        <p:xfrm>
          <a:off x="1447920" y="4495680"/>
          <a:ext cx="377172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95680"/>
                    <a:ext cx="37717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anto à natureza dos átom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181480" y="2743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ogênea: Na cadeia, existe apenas átom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76920" y="480060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terogênea: Na cadeia, existe átomos de outros elementos (heteroáto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762120" y="2209680"/>
          <a:ext cx="4267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4267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685800" y="4038480"/>
          <a:ext cx="41911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38480"/>
                    <a:ext cx="4191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aixaDeTexto 3"/>
          <p:cNvSpPr/>
          <p:nvPr/>
        </p:nvSpPr>
        <p:spPr>
          <a:xfrm>
            <a:off x="428760" y="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II.Cadeia  Fechada ( cíclic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aixaDeTexto 5"/>
          <p:cNvSpPr/>
          <p:nvPr/>
        </p:nvSpPr>
        <p:spPr>
          <a:xfrm>
            <a:off x="500040" y="42876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Quanto à presença de anel aro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benzeno3"/>
          <p:cNvPicPr/>
          <p:nvPr/>
        </p:nvPicPr>
        <p:blipFill>
          <a:blip r:embed="rId1"/>
          <a:stretch/>
        </p:blipFill>
        <p:spPr>
          <a:xfrm>
            <a:off x="642960" y="1857240"/>
            <a:ext cx="228600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enzeno2"/>
          <p:cNvPicPr/>
          <p:nvPr/>
        </p:nvPicPr>
        <p:blipFill>
          <a:blip r:embed="rId2"/>
          <a:stretch/>
        </p:blipFill>
        <p:spPr>
          <a:xfrm>
            <a:off x="3429000" y="200016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8"/>
          <p:cNvSpPr/>
          <p:nvPr/>
        </p:nvSpPr>
        <p:spPr>
          <a:xfrm>
            <a:off x="357120" y="1357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romática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 : - Cadeia constituída por compostos que apresentam o anel  benzênico em sua estru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aixaDeTexto 9"/>
          <p:cNvSpPr/>
          <p:nvPr/>
        </p:nvSpPr>
        <p:spPr>
          <a:xfrm>
            <a:off x="1785960" y="3571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aixaDeTexto 11"/>
          <p:cNvSpPr/>
          <p:nvPr/>
        </p:nvSpPr>
        <p:spPr>
          <a:xfrm>
            <a:off x="285840" y="407196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– representação de todos os át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aixaDeTexto 12"/>
          <p:cNvSpPr/>
          <p:nvPr/>
        </p:nvSpPr>
        <p:spPr>
          <a:xfrm>
            <a:off x="428760" y="45007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I – simplificação da estrutu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aixaDeTexto 14"/>
          <p:cNvSpPr/>
          <p:nvPr/>
        </p:nvSpPr>
        <p:spPr>
          <a:xfrm>
            <a:off x="428760" y="4929120"/>
            <a:ext cx="8072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I I – representação das ligações : o círculo no meio representa as três ligações duplas. Essas ligações não se encontram fixas em suas posições, mas sim deslocadas ao longo do a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aixaDeTexto 3"/>
          <p:cNvSpPr/>
          <p:nvPr/>
        </p:nvSpPr>
        <p:spPr>
          <a:xfrm>
            <a:off x="357120" y="428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cíclica ou não aromática </a:t>
            </a:r>
            <a:r>
              <a:rPr b="1" lang="pt-BR" sz="2400" spc="-1" strike="noStrike">
                <a:solidFill>
                  <a:srgbClr val="ffff00"/>
                </a:solidFill>
                <a:latin typeface="Century Schoolbook"/>
              </a:rPr>
              <a:t>: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 - Cadeia alicíclica constituída por compostos que não apresentam o anel aromático (benzênico) em sua estru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35164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7"/>
          <p:cNvSpPr/>
          <p:nvPr/>
        </p:nvSpPr>
        <p:spPr>
          <a:xfrm>
            <a:off x="357120" y="42148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As cadeias cíclicas também pode ser classificad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Homogêneas</a:t>
            </a: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ou </a:t>
            </a: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Heterogê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saturadas</a:t>
            </a: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ou </a:t>
            </a: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insatu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aixaDeTexto 3"/>
          <p:cNvSpPr/>
          <p:nvPr/>
        </p:nvSpPr>
        <p:spPr>
          <a:xfrm>
            <a:off x="357120" y="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Century Schoolbook"/>
              </a:rPr>
              <a:t>Exempl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15560" cy="1932120"/>
          </a:xfrm>
          <a:prstGeom prst="rect">
            <a:avLst/>
          </a:prstGeom>
          <a:ln w="0">
            <a:noFill/>
          </a:ln>
        </p:spPr>
      </p:pic>
      <p:sp>
        <p:nvSpPr>
          <p:cNvPr id="195" name="CaixaDeTexto 5"/>
          <p:cNvSpPr/>
          <p:nvPr/>
        </p:nvSpPr>
        <p:spPr>
          <a:xfrm>
            <a:off x="357120" y="257184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 – Cadeia carbônica aberta, normal , 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I – Cadeia carbônica cíclica, aromática, in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II – Cadeia carbônica aberta, ramificada, saturada e heter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V – Cadeia carbônica cíclica, alicíclica, 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V – Cadeia carbônica aberta, normal, insaturada e homogên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aixaDeTexto 6"/>
          <p:cNvSpPr/>
          <p:nvPr/>
        </p:nvSpPr>
        <p:spPr>
          <a:xfrm>
            <a:off x="357120" y="478620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bservação </a:t>
            </a:r>
            <a:r>
              <a:rPr b="1" lang="pt-BR" sz="2400" spc="-1" strike="noStrike" u="sng">
                <a:solidFill>
                  <a:srgbClr val="ffff00"/>
                </a:solidFill>
                <a:uFillTx/>
                <a:latin typeface="Century Schoolbook"/>
              </a:rPr>
              <a:t>: </a:t>
            </a: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Podemos contar o número de insaturações presentes em uma molécula: para cada ligação dupla, temos uma insaturação e, para cada ligação tripla, temos duas insaturações. Assim, na estrutura II,temos três insaturações e, em V ,temos apenas 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8896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Classificação dos carbonos na cadeia: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7"/>
          <p:cNvGraphicFramePr/>
          <p:nvPr/>
        </p:nvGraphicFramePr>
        <p:xfrm>
          <a:off x="838080" y="2590920"/>
          <a:ext cx="19432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19432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Object 8" descr=""/>
          <p:cNvPicPr/>
          <p:nvPr/>
        </p:nvPicPr>
        <p:blipFill>
          <a:blip r:embed="rId3"/>
          <a:stretch/>
        </p:blipFill>
        <p:spPr>
          <a:xfrm>
            <a:off x="5715000" y="2666880"/>
            <a:ext cx="1943280" cy="104796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9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10" descr=""/>
          <p:cNvPicPr/>
          <p:nvPr/>
        </p:nvPicPr>
        <p:blipFill>
          <a:blip r:embed="rId5"/>
          <a:stretch/>
        </p:blipFill>
        <p:spPr>
          <a:xfrm>
            <a:off x="6095880" y="4191120"/>
            <a:ext cx="1038240" cy="1504800"/>
          </a:xfrm>
          <a:prstGeom prst="rect">
            <a:avLst/>
          </a:prstGeom>
          <a:ln w="0">
            <a:noFill/>
          </a:ln>
        </p:spPr>
      </p:pic>
      <p:sp>
        <p:nvSpPr>
          <p:cNvPr id="206" name="Line 11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2057400" y="396216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6553080" y="236196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5638320" y="51055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2004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7432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ci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670572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und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4495680" y="5638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ter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260280"/>
          <a:ext cx="8243640" cy="5973840"/>
        </p:xfrm>
        <a:graphic>
          <a:graphicData uri="http://schemas.openxmlformats.org/drawingml/2006/table">
            <a:tbl>
              <a:tblPr/>
              <a:tblGrid>
                <a:gridCol w="4201920"/>
                <a:gridCol w="4041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mpl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ivados do petró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olina, queros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as Sinté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lon , Teflon , P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ímeros Na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, RNA, borra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tos  de refrigeração e aerosó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on ( hidrocarbonetos polihalogenado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tas e res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tas de água e de ó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s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NT trinitrotolu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duras e ól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leo de milho , óleos vege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ões e deterg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gentes para roupa e lou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ímicos agríco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tamato de só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tivos de alimentos e conserv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,  ami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úcares e am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belo, pele , ami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s e  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lina , 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irina , penicilina , AZT , Viag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árma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Administrador\Meus documentos\Minhas imagens\foto-elizete\Imagem 4460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3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219320" y="3505320"/>
            <a:ext cx="701028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omenclatura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Função orgâ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um conjunto de substâncias com propriedades químicas semelhantes denominadas de propriedades funcio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estudo das funções, é preciso iniciarmos o estudo da sua nomenclatura, que exige o cumprimento de normas estabelecidas pela IUPAC (Union of Pure and Applied Chemistr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tanto, vamos iniciar o estudo dos prefix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523880" y="228600"/>
          <a:ext cx="6096240" cy="63244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úmero de car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efi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Radicais orgânicos e seus n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Object 4" descr=""/>
          <p:cNvPicPr/>
          <p:nvPr/>
        </p:nvPicPr>
        <p:blipFill>
          <a:blip r:embed="rId1"/>
          <a:stretch/>
        </p:blipFill>
        <p:spPr>
          <a:xfrm>
            <a:off x="762120" y="1623960"/>
            <a:ext cx="8153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gras fundamentais na nomenclatura dos comp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) Considerar, como cadeia principal, a cadeia mais longa; se há várias de mesmo comprimento, escolha como cadeia principal a mais ramific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0880" y="3124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) Numerar a cadeia de modo que as ramificações recebam os menores números possíveis (regra dos menores núme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808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) Citar as ramificações, em ordem alfabética, precedidas pelos seus números de colocação na cadeia principal e finalizar com o nome correspondente à cadeia prin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143000" y="281952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imeira função orgânica: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1143000" y="3733920"/>
            <a:ext cx="7010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Hidrocarbonetos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6" name="Picture 4" descr="PlataformaPetroleo02"/>
          <p:cNvPicPr/>
          <p:nvPr/>
        </p:nvPicPr>
        <p:blipFill>
          <a:blip r:embed="rId2"/>
          <a:stretch/>
        </p:blipFill>
        <p:spPr>
          <a:xfrm>
            <a:off x="2484360" y="404640"/>
            <a:ext cx="4032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79520" y="6015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HIDROCARBONETOS, são compostos orgânicos formados exclusivamente por: carbono e hidrogê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90512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anos: São os principais formadores do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alcanos apresentam apenas ligaçõe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2767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enos: Matéria-prima na fabricação de p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fibras têxt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suem duplas lig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952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inos: Usados na fabricação de plásticos e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suem tripla lig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Object 1024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025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28600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1026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2666880" cy="561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sala2_16"/>
          <p:cNvPicPr/>
          <p:nvPr/>
        </p:nvPicPr>
        <p:blipFill>
          <a:blip r:embed="rId4"/>
          <a:stretch/>
        </p:blipFill>
        <p:spPr>
          <a:xfrm>
            <a:off x="7812000" y="2781360"/>
            <a:ext cx="10508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mindo: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Object 1024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828720" cy="2379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025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781200" cy="29520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026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809640" cy="380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45720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267080" y="609480"/>
            <a:ext cx="4648320" cy="4379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ncl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a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e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i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99072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companhe os exemplos a seguir   </a:t>
            </a:r>
            <a:r>
              <a:rPr b="0" lang="pt-B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523880" y="1397160"/>
          <a:ext cx="6096240" cy="340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pt-BR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Object 1024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1904760" cy="4618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102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167616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26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25146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inda na pré-história, tais substâncias eram utilizadas pelo homem para a produção de calor, para realização de pinturas nos corpos, em cerâmicas e em desenhos nas cavern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bisao"/>
          <p:cNvPicPr/>
          <p:nvPr/>
        </p:nvPicPr>
        <p:blipFill>
          <a:blip r:embed="rId1"/>
          <a:stretch/>
        </p:blipFill>
        <p:spPr>
          <a:xfrm>
            <a:off x="1476360" y="3573360"/>
            <a:ext cx="388764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age011"/>
          <p:cNvPicPr/>
          <p:nvPr/>
        </p:nvPicPr>
        <p:blipFill>
          <a:blip r:embed="rId2"/>
          <a:stretch/>
        </p:blipFill>
        <p:spPr>
          <a:xfrm>
            <a:off x="5940360" y="3573360"/>
            <a:ext cx="180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ject 1024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4000680" cy="1504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2133720" y="1523880"/>
            <a:ext cx="4876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Object 1025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724280" cy="5904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 flipV="1">
            <a:off x="2819520" y="2209320"/>
            <a:ext cx="7596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3657600" y="2209320"/>
            <a:ext cx="763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"/>
          <p:cNvSpPr/>
          <p:nvPr/>
        </p:nvSpPr>
        <p:spPr>
          <a:xfrm flipV="1">
            <a:off x="4572000" y="2209320"/>
            <a:ext cx="763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2"/>
          <p:cNvSpPr/>
          <p:nvPr/>
        </p:nvSpPr>
        <p:spPr>
          <a:xfrm flipH="1" flipV="1">
            <a:off x="5410080" y="2209320"/>
            <a:ext cx="76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6248160" y="2133720"/>
            <a:ext cx="228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267080" y="1066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1026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1533600" cy="4716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027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476280" cy="295200"/>
          </a:xfrm>
          <a:prstGeom prst="rect">
            <a:avLst/>
          </a:prstGeom>
          <a:ln w="0">
            <a:noFill/>
          </a:ln>
        </p:spPr>
      </p:pic>
      <p:sp>
        <p:nvSpPr>
          <p:cNvPr id="257" name="Line 18"/>
          <p:cNvSpPr/>
          <p:nvPr/>
        </p:nvSpPr>
        <p:spPr>
          <a:xfrm flipH="1">
            <a:off x="2590920" y="1066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1028" descr=""/>
          <p:cNvPicPr/>
          <p:nvPr/>
        </p:nvPicPr>
        <p:blipFill>
          <a:blip r:embed="rId5"/>
          <a:stretch/>
        </p:blipFill>
        <p:spPr>
          <a:xfrm>
            <a:off x="1676520" y="914400"/>
            <a:ext cx="771480" cy="324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0"/>
          <p:cNvSpPr/>
          <p:nvPr/>
        </p:nvSpPr>
        <p:spPr>
          <a:xfrm>
            <a:off x="3276720" y="4343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meti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4343400" y="4343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pen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276720" y="43434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4495680" y="43434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441972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89548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adic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Cad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ject 0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581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990720" y="4724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2,2,4 trimetil - pent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Hibrid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arbono sofre hibridização, ou seja, mistura de orbi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m três tipos de hibridização para o carbo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5873400" y="3429000"/>
            <a:ext cx="1558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 orb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514600" y="114300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1839960" y="3860640"/>
            <a:ext cx="1747800" cy="2796840"/>
            <a:chOff x="1839960" y="3860640"/>
            <a:chExt cx="1747800" cy="2796840"/>
          </a:xfrm>
        </p:grpSpPr>
        <p:sp>
          <p:nvSpPr>
            <p:cNvPr id="273" name="Rectangle 9"/>
            <p:cNvSpPr/>
            <p:nvPr/>
          </p:nvSpPr>
          <p:spPr>
            <a:xfrm>
              <a:off x="1839960" y="6133680"/>
              <a:ext cx="1547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AU" sz="26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 orbit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10"/>
            <p:cNvGrpSpPr/>
            <p:nvPr/>
          </p:nvGrpSpPr>
          <p:grpSpPr>
            <a:xfrm>
              <a:off x="1899000" y="3860640"/>
              <a:ext cx="1688760" cy="2265120"/>
              <a:chOff x="1899000" y="3860640"/>
              <a:chExt cx="1688760" cy="2265120"/>
            </a:xfrm>
          </p:grpSpPr>
          <p:grpSp>
            <p:nvGrpSpPr>
              <p:cNvPr id="275" name="Group 11"/>
              <p:cNvGrpSpPr/>
              <p:nvPr/>
            </p:nvGrpSpPr>
            <p:grpSpPr>
              <a:xfrm>
                <a:off x="1899000" y="4263840"/>
                <a:ext cx="1688760" cy="1861920"/>
                <a:chOff x="1899000" y="4263840"/>
                <a:chExt cx="1688760" cy="1861920"/>
              </a:xfrm>
            </p:grpSpPr>
            <p:grpSp>
              <p:nvGrpSpPr>
                <p:cNvPr id="276" name="Group 12"/>
                <p:cNvGrpSpPr/>
                <p:nvPr/>
              </p:nvGrpSpPr>
              <p:grpSpPr>
                <a:xfrm>
                  <a:off x="1899000" y="4263840"/>
                  <a:ext cx="1688760" cy="1861920"/>
                  <a:chOff x="1899000" y="4263840"/>
                  <a:chExt cx="1688760" cy="1861920"/>
                </a:xfrm>
              </p:grpSpPr>
              <p:sp>
                <p:nvSpPr>
                  <p:cNvPr id="277" name="Line 13"/>
                  <p:cNvSpPr/>
                  <p:nvPr/>
                </p:nvSpPr>
                <p:spPr>
                  <a:xfrm flipV="1">
                    <a:off x="2103480" y="4496760"/>
                    <a:ext cx="1282680" cy="145404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14"/>
                  <p:cNvSpPr/>
                  <p:nvPr/>
                </p:nvSpPr>
                <p:spPr>
                  <a:xfrm flipV="1">
                    <a:off x="2748240" y="4263840"/>
                    <a:ext cx="11160" cy="186192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15"/>
                  <p:cNvSpPr/>
                  <p:nvPr/>
                </p:nvSpPr>
                <p:spPr>
                  <a:xfrm>
                    <a:off x="1899000" y="5202000"/>
                    <a:ext cx="1688760" cy="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Group 16"/>
                <p:cNvGrpSpPr/>
                <p:nvPr/>
              </p:nvGrpSpPr>
              <p:grpSpPr>
                <a:xfrm>
                  <a:off x="2516400" y="4392360"/>
                  <a:ext cx="477720" cy="803160"/>
                  <a:chOff x="2516400" y="4392360"/>
                  <a:chExt cx="477720" cy="803160"/>
                </a:xfrm>
              </p:grpSpPr>
              <p:sp>
                <p:nvSpPr>
                  <p:cNvPr id="281" name="Freeform 17"/>
                  <p:cNvSpPr/>
                  <p:nvPr/>
                </p:nvSpPr>
                <p:spPr>
                  <a:xfrm>
                    <a:off x="2516400" y="4392360"/>
                    <a:ext cx="460440" cy="78588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8"/>
                  <p:cNvSpPr/>
                  <p:nvPr/>
                </p:nvSpPr>
                <p:spPr>
                  <a:xfrm>
                    <a:off x="2524320" y="4400280"/>
                    <a:ext cx="469800" cy="79524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Group 19"/>
                <p:cNvGrpSpPr/>
                <p:nvPr/>
              </p:nvGrpSpPr>
              <p:grpSpPr>
                <a:xfrm>
                  <a:off x="2535480" y="5192280"/>
                  <a:ext cx="439560" cy="750960"/>
                  <a:chOff x="2535480" y="5192280"/>
                  <a:chExt cx="439560" cy="750960"/>
                </a:xfrm>
              </p:grpSpPr>
              <p:sp>
                <p:nvSpPr>
                  <p:cNvPr id="284" name="Freeform 20"/>
                  <p:cNvSpPr/>
                  <p:nvPr/>
                </p:nvSpPr>
                <p:spPr>
                  <a:xfrm>
                    <a:off x="2535480" y="5192280"/>
                    <a:ext cx="422280" cy="7351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21"/>
                  <p:cNvSpPr/>
                  <p:nvPr/>
                </p:nvSpPr>
                <p:spPr>
                  <a:xfrm>
                    <a:off x="2543400" y="5200560"/>
                    <a:ext cx="431640" cy="7426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" name="Rectangle 22"/>
              <p:cNvSpPr/>
              <p:nvPr/>
            </p:nvSpPr>
            <p:spPr>
              <a:xfrm>
                <a:off x="2583000" y="386064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AU" sz="1900" spc="-1" strike="noStrike">
                    <a:solidFill>
                      <a:srgbClr val="ff23c7"/>
                    </a:solidFill>
                    <a:latin typeface="Arial"/>
                  </a:rPr>
                  <a:t>z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Group 23"/>
          <p:cNvGrpSpPr/>
          <p:nvPr/>
        </p:nvGrpSpPr>
        <p:grpSpPr>
          <a:xfrm>
            <a:off x="5651640" y="1197000"/>
            <a:ext cx="2098440" cy="1859040"/>
            <a:chOff x="5651640" y="1197000"/>
            <a:chExt cx="2098440" cy="1859040"/>
          </a:xfrm>
        </p:grpSpPr>
        <p:grpSp>
          <p:nvGrpSpPr>
            <p:cNvPr id="288" name="Group 24"/>
            <p:cNvGrpSpPr/>
            <p:nvPr/>
          </p:nvGrpSpPr>
          <p:grpSpPr>
            <a:xfrm>
              <a:off x="5651640" y="1197000"/>
              <a:ext cx="1688760" cy="1859040"/>
              <a:chOff x="5651640" y="1197000"/>
              <a:chExt cx="1688760" cy="1859040"/>
            </a:xfrm>
          </p:grpSpPr>
          <p:grpSp>
            <p:nvGrpSpPr>
              <p:cNvPr id="289" name="Group 25"/>
              <p:cNvGrpSpPr/>
              <p:nvPr/>
            </p:nvGrpSpPr>
            <p:grpSpPr>
              <a:xfrm>
                <a:off x="5651640" y="1197000"/>
                <a:ext cx="1688760" cy="1859040"/>
                <a:chOff x="5651640" y="1197000"/>
                <a:chExt cx="1688760" cy="1859040"/>
              </a:xfrm>
            </p:grpSpPr>
            <p:sp>
              <p:nvSpPr>
                <p:cNvPr id="290" name="Line 26"/>
                <p:cNvSpPr/>
                <p:nvPr/>
              </p:nvSpPr>
              <p:spPr>
                <a:xfrm flipV="1">
                  <a:off x="5856120" y="1430640"/>
                  <a:ext cx="1282320" cy="145224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27"/>
                <p:cNvSpPr/>
                <p:nvPr/>
              </p:nvSpPr>
              <p:spPr>
                <a:xfrm flipV="1">
                  <a:off x="6500880" y="1197000"/>
                  <a:ext cx="10800" cy="185904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28"/>
                <p:cNvSpPr/>
                <p:nvPr/>
              </p:nvSpPr>
              <p:spPr>
                <a:xfrm>
                  <a:off x="5651640" y="2133720"/>
                  <a:ext cx="168876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29"/>
              <p:cNvGrpSpPr/>
              <p:nvPr/>
            </p:nvGrpSpPr>
            <p:grpSpPr>
              <a:xfrm>
                <a:off x="6495840" y="1882800"/>
                <a:ext cx="802800" cy="471600"/>
                <a:chOff x="6495840" y="1882800"/>
                <a:chExt cx="802800" cy="471600"/>
              </a:xfrm>
            </p:grpSpPr>
            <p:sp>
              <p:nvSpPr>
                <p:cNvPr id="294" name="Freeform 30"/>
                <p:cNvSpPr/>
                <p:nvPr/>
              </p:nvSpPr>
              <p:spPr>
                <a:xfrm>
                  <a:off x="6495840" y="1882800"/>
                  <a:ext cx="787320" cy="45576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31"/>
                <p:cNvSpPr/>
                <p:nvPr/>
              </p:nvSpPr>
              <p:spPr>
                <a:xfrm>
                  <a:off x="6505200" y="1890720"/>
                  <a:ext cx="793440" cy="4636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32"/>
              <p:cNvGrpSpPr/>
              <p:nvPr/>
            </p:nvGrpSpPr>
            <p:grpSpPr>
              <a:xfrm>
                <a:off x="5748120" y="1895760"/>
                <a:ext cx="752040" cy="446040"/>
                <a:chOff x="5748120" y="1895760"/>
                <a:chExt cx="752040" cy="446040"/>
              </a:xfrm>
            </p:grpSpPr>
            <p:sp>
              <p:nvSpPr>
                <p:cNvPr id="297" name="Freeform 33"/>
                <p:cNvSpPr/>
                <p:nvPr/>
              </p:nvSpPr>
              <p:spPr>
                <a:xfrm>
                  <a:off x="5748120" y="1895760"/>
                  <a:ext cx="734760" cy="4302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34"/>
                <p:cNvSpPr/>
                <p:nvPr/>
              </p:nvSpPr>
              <p:spPr>
                <a:xfrm>
                  <a:off x="5756040" y="1905120"/>
                  <a:ext cx="744120" cy="4366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" name="Rectangle 35"/>
            <p:cNvSpPr/>
            <p:nvPr/>
          </p:nvSpPr>
          <p:spPr>
            <a:xfrm>
              <a:off x="7468920" y="19288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1900" spc="-1" strike="noStrike">
                  <a:solidFill>
                    <a:srgbClr val="ff23c7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5508720" y="4292640"/>
            <a:ext cx="1755720" cy="2492280"/>
            <a:chOff x="5508720" y="4292640"/>
            <a:chExt cx="1755720" cy="2492280"/>
          </a:xfrm>
        </p:grpSpPr>
        <p:sp>
          <p:nvSpPr>
            <p:cNvPr id="301" name="Rectangle 37"/>
            <p:cNvSpPr/>
            <p:nvPr/>
          </p:nvSpPr>
          <p:spPr>
            <a:xfrm>
              <a:off x="5568120" y="6261120"/>
              <a:ext cx="15580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AU" sz="2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 orbit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8"/>
            <p:cNvGrpSpPr/>
            <p:nvPr/>
          </p:nvGrpSpPr>
          <p:grpSpPr>
            <a:xfrm>
              <a:off x="5508720" y="4292640"/>
              <a:ext cx="1755720" cy="1965240"/>
              <a:chOff x="5508720" y="4292640"/>
              <a:chExt cx="1755720" cy="1965240"/>
            </a:xfrm>
          </p:grpSpPr>
          <p:grpSp>
            <p:nvGrpSpPr>
              <p:cNvPr id="303" name="Group 39"/>
              <p:cNvGrpSpPr/>
              <p:nvPr/>
            </p:nvGrpSpPr>
            <p:grpSpPr>
              <a:xfrm>
                <a:off x="5508720" y="4395960"/>
                <a:ext cx="1688760" cy="1861920"/>
                <a:chOff x="5508720" y="4395960"/>
                <a:chExt cx="1688760" cy="1861920"/>
              </a:xfrm>
            </p:grpSpPr>
            <p:grpSp>
              <p:nvGrpSpPr>
                <p:cNvPr id="304" name="Group 40"/>
                <p:cNvGrpSpPr/>
                <p:nvPr/>
              </p:nvGrpSpPr>
              <p:grpSpPr>
                <a:xfrm>
                  <a:off x="5508720" y="4395960"/>
                  <a:ext cx="1688760" cy="1861920"/>
                  <a:chOff x="5508720" y="4395960"/>
                  <a:chExt cx="1688760" cy="1861920"/>
                </a:xfrm>
              </p:grpSpPr>
              <p:sp>
                <p:nvSpPr>
                  <p:cNvPr id="305" name="Line 41"/>
                  <p:cNvSpPr/>
                  <p:nvPr/>
                </p:nvSpPr>
                <p:spPr>
                  <a:xfrm flipV="1">
                    <a:off x="5713200" y="4629240"/>
                    <a:ext cx="1282320" cy="145584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Line 42"/>
                  <p:cNvSpPr/>
                  <p:nvPr/>
                </p:nvSpPr>
                <p:spPr>
                  <a:xfrm flipV="1">
                    <a:off x="6357960" y="4395960"/>
                    <a:ext cx="10800" cy="186192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43"/>
                  <p:cNvSpPr/>
                  <p:nvPr/>
                </p:nvSpPr>
                <p:spPr>
                  <a:xfrm>
                    <a:off x="5508720" y="5334120"/>
                    <a:ext cx="1688760" cy="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Group 44"/>
                <p:cNvGrpSpPr/>
                <p:nvPr/>
              </p:nvGrpSpPr>
              <p:grpSpPr>
                <a:xfrm>
                  <a:off x="6340320" y="4686480"/>
                  <a:ext cx="672480" cy="672840"/>
                  <a:chOff x="6340320" y="4686480"/>
                  <a:chExt cx="672480" cy="672840"/>
                </a:xfrm>
              </p:grpSpPr>
              <p:sp>
                <p:nvSpPr>
                  <p:cNvPr id="309" name="Freeform 45"/>
                  <p:cNvSpPr/>
                  <p:nvPr/>
                </p:nvSpPr>
                <p:spPr>
                  <a:xfrm>
                    <a:off x="6340320" y="4686480"/>
                    <a:ext cx="657000" cy="65700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46"/>
                  <p:cNvSpPr/>
                  <p:nvPr/>
                </p:nvSpPr>
                <p:spPr>
                  <a:xfrm>
                    <a:off x="6347880" y="4694400"/>
                    <a:ext cx="664920" cy="66492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Group 47"/>
                <p:cNvGrpSpPr/>
                <p:nvPr/>
              </p:nvGrpSpPr>
              <p:grpSpPr>
                <a:xfrm>
                  <a:off x="5754600" y="5318280"/>
                  <a:ext cx="627840" cy="627120"/>
                  <a:chOff x="5754600" y="5318280"/>
                  <a:chExt cx="627840" cy="627120"/>
                </a:xfrm>
              </p:grpSpPr>
              <p:sp>
                <p:nvSpPr>
                  <p:cNvPr id="312" name="Freeform 48"/>
                  <p:cNvSpPr/>
                  <p:nvPr/>
                </p:nvSpPr>
                <p:spPr>
                  <a:xfrm>
                    <a:off x="5754600" y="5318280"/>
                    <a:ext cx="610920" cy="61092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49"/>
                  <p:cNvSpPr/>
                  <p:nvPr/>
                </p:nvSpPr>
                <p:spPr>
                  <a:xfrm>
                    <a:off x="5763600" y="5324400"/>
                    <a:ext cx="618840" cy="62100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Rectangle 50"/>
              <p:cNvSpPr/>
              <p:nvPr/>
            </p:nvSpPr>
            <p:spPr>
              <a:xfrm>
                <a:off x="6983280" y="429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AU" sz="1900" spc="-1" strike="noStrike">
                    <a:solidFill>
                      <a:srgbClr val="ff23c7"/>
                    </a:solidFill>
                    <a:latin typeface="Arial"/>
                  </a:rPr>
                  <a:t>y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Rectangle 51"/>
          <p:cNvSpPr/>
          <p:nvPr/>
        </p:nvSpPr>
        <p:spPr>
          <a:xfrm>
            <a:off x="1977840" y="3500280"/>
            <a:ext cx="12988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 orb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2"/>
          <p:cNvGrpSpPr/>
          <p:nvPr/>
        </p:nvGrpSpPr>
        <p:grpSpPr>
          <a:xfrm>
            <a:off x="1619280" y="1125000"/>
            <a:ext cx="2000160" cy="2174760"/>
            <a:chOff x="1619280" y="1125000"/>
            <a:chExt cx="2000160" cy="2174760"/>
          </a:xfrm>
        </p:grpSpPr>
        <p:sp>
          <p:nvSpPr>
            <p:cNvPr id="317" name="Line 53"/>
            <p:cNvSpPr/>
            <p:nvPr/>
          </p:nvSpPr>
          <p:spPr>
            <a:xfrm flipV="1">
              <a:off x="1863720" y="1401480"/>
              <a:ext cx="1519200" cy="169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54"/>
            <p:cNvSpPr/>
            <p:nvPr/>
          </p:nvSpPr>
          <p:spPr>
            <a:xfrm flipV="1">
              <a:off x="2619360" y="1125000"/>
              <a:ext cx="9720" cy="2174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55"/>
            <p:cNvSpPr/>
            <p:nvPr/>
          </p:nvSpPr>
          <p:spPr>
            <a:xfrm>
              <a:off x="1619280" y="2214360"/>
              <a:ext cx="2000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56"/>
            <p:cNvSpPr/>
            <p:nvPr/>
          </p:nvSpPr>
          <p:spPr>
            <a:xfrm>
              <a:off x="2268720" y="1863720"/>
              <a:ext cx="699840" cy="69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rbi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611280" y="644400"/>
            <a:ext cx="820872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ridização  sp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 mistura de  3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puros” com um orbi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“puro”, formando 4 novos orbitais   “híbridos” denominad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ometria dos 4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tetraédrica (os 4 orbitais partem do centro do tetraédro e dirigem-se, cada um, para um dos vértices do tetraédro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ângulo entre os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á de aprox.109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ntece no C que se liga através de 4 ligações simples ( o C é tetravalente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428760" y="5000760"/>
            <a:ext cx="2454120" cy="1982160"/>
            <a:chOff x="428760" y="5000760"/>
            <a:chExt cx="2454120" cy="1982160"/>
          </a:xfrm>
        </p:grpSpPr>
        <p:sp>
          <p:nvSpPr>
            <p:cNvPr id="324" name="Line 7"/>
            <p:cNvSpPr/>
            <p:nvPr/>
          </p:nvSpPr>
          <p:spPr>
            <a:xfrm>
              <a:off x="1665360" y="646452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9795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23511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16653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28760" y="5000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1800360" y="6524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1282680" y="4560840"/>
            <a:ext cx="762120" cy="1913040"/>
            <a:chOff x="1282680" y="4560840"/>
            <a:chExt cx="762120" cy="1913040"/>
          </a:xfrm>
        </p:grpSpPr>
        <p:sp>
          <p:nvSpPr>
            <p:cNvPr id="331" name="Line 14"/>
            <p:cNvSpPr/>
            <p:nvPr/>
          </p:nvSpPr>
          <p:spPr>
            <a:xfrm>
              <a:off x="1892520" y="5780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2044800" y="5865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2044800" y="4560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1282680" y="4560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18"/>
          <p:cNvGrpSpPr/>
          <p:nvPr/>
        </p:nvGrpSpPr>
        <p:grpSpPr>
          <a:xfrm>
            <a:off x="3628440" y="5175360"/>
            <a:ext cx="1725840" cy="893160"/>
            <a:chOff x="3628440" y="5175360"/>
            <a:chExt cx="1725840" cy="893160"/>
          </a:xfrm>
        </p:grpSpPr>
        <p:sp>
          <p:nvSpPr>
            <p:cNvPr id="336" name="AutoShape 19"/>
            <p:cNvSpPr/>
            <p:nvPr/>
          </p:nvSpPr>
          <p:spPr>
            <a:xfrm>
              <a:off x="3727440" y="5175360"/>
              <a:ext cx="1054080" cy="291960"/>
            </a:xfrm>
            <a:prstGeom prst="rightArrow">
              <a:avLst>
                <a:gd name="adj1" fmla="val 50000"/>
                <a:gd name="adj2" fmla="val 18060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3628440" y="561024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21"/>
          <p:cNvGrpSpPr/>
          <p:nvPr/>
        </p:nvGrpSpPr>
        <p:grpSpPr>
          <a:xfrm>
            <a:off x="5780160" y="4787640"/>
            <a:ext cx="2817720" cy="1204560"/>
            <a:chOff x="5780160" y="4787640"/>
            <a:chExt cx="2817720" cy="1204560"/>
          </a:xfrm>
        </p:grpSpPr>
        <p:sp>
          <p:nvSpPr>
            <p:cNvPr id="339" name="Line 22"/>
            <p:cNvSpPr/>
            <p:nvPr/>
          </p:nvSpPr>
          <p:spPr>
            <a:xfrm>
              <a:off x="5780160" y="5244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67708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74566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1424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V="1">
              <a:off x="60832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V="1">
              <a:off x="69976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 flipV="1">
              <a:off x="76834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 flipV="1">
              <a:off x="83692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6836040" y="5533920"/>
              <a:ext cx="63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pt-BR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8" name="Object 2"/>
          <p:cNvGraphicFramePr/>
          <p:nvPr/>
        </p:nvGraphicFramePr>
        <p:xfrm>
          <a:off x="3741840" y="1581120"/>
          <a:ext cx="21621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1581120"/>
                    <a:ext cx="21621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Line 32"/>
          <p:cNvSpPr/>
          <p:nvPr/>
        </p:nvSpPr>
        <p:spPr>
          <a:xfrm>
            <a:off x="4635360" y="11318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6006960" y="265572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5626080" y="34178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3568680" y="3036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4695840" y="32637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1076400" y="1511280"/>
            <a:ext cx="3483000" cy="4038120"/>
            <a:chOff x="1076400" y="1511280"/>
            <a:chExt cx="3483000" cy="4038120"/>
          </a:xfrm>
        </p:grpSpPr>
        <p:sp>
          <p:nvSpPr>
            <p:cNvPr id="356" name="Oval 5"/>
            <p:cNvSpPr/>
            <p:nvPr/>
          </p:nvSpPr>
          <p:spPr>
            <a:xfrm>
              <a:off x="1076400" y="3188880"/>
              <a:ext cx="150804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3051360" y="3063600"/>
              <a:ext cx="1508040" cy="15555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1847880" y="2441160"/>
              <a:ext cx="2108160" cy="2485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9595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2149560" y="1511280"/>
              <a:ext cx="150480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2448000" y="3997080"/>
              <a:ext cx="150804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1" name="Object 2"/>
          <p:cNvGraphicFramePr/>
          <p:nvPr/>
        </p:nvGraphicFramePr>
        <p:xfrm>
          <a:off x="5548320" y="2462040"/>
          <a:ext cx="23702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2462040"/>
                    <a:ext cx="23702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Line 11"/>
          <p:cNvSpPr/>
          <p:nvPr/>
        </p:nvSpPr>
        <p:spPr>
          <a:xfrm>
            <a:off x="6769080" y="29606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"/>
          <p:cNvSpPr/>
          <p:nvPr/>
        </p:nvSpPr>
        <p:spPr>
          <a:xfrm flipV="1">
            <a:off x="6616800" y="29592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7302600" y="34178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7454880" y="341784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 flipV="1">
            <a:off x="6921360" y="440640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6769080" y="440856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5931000" y="35701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6083280" y="35701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ridização sp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6206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 mistura de um orbital s com dois orbitais p (pertencentes a um mesmo átomo), resultando em 3 novos orbitais denominados híbridos sp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três orbitais híbrid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tuam-se num mesmo plano formando ângulos de 120° entre si (geometria plana triangul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ntece com C que possua uma dupla lig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 C do tip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irá um orbital p “puro” que será responsável pela ligação covalente do tipo 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écula de eteno (etil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dois átomos de C encontram-se ligados por uma dupla ligação Uma ligação sigma sp2-sp2 e uma ligação 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átomo de C encontra-se ligado a dois átomos de H (duas ligações sigma s-sp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50920" y="54936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de os alquimistas do século XVI, as técnicas para extração de substâncias foram sendo aperfeiço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240000" cy="244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9640" y="3500280"/>
            <a:ext cx="82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 limão extraiu-se o ácido cítrico (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s gorduras anima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traiu-se a glicerina (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2303640" y="517680"/>
            <a:ext cx="521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BRIDIZAÇÃO DO CARBONO 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6504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896400" y="15080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i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124080" y="990720"/>
            <a:ext cx="3048120" cy="1752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7c7c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3314160" y="1144440"/>
            <a:ext cx="2536560" cy="1516680"/>
            <a:chOff x="3314160" y="1144440"/>
            <a:chExt cx="2536560" cy="1516680"/>
          </a:xfrm>
        </p:grpSpPr>
        <p:sp>
          <p:nvSpPr>
            <p:cNvPr id="380" name="Rectangle 9"/>
            <p:cNvSpPr/>
            <p:nvPr/>
          </p:nvSpPr>
          <p:spPr>
            <a:xfrm>
              <a:off x="3869640" y="1569960"/>
              <a:ext cx="1393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0"/>
            <p:cNvSpPr/>
            <p:nvPr/>
          </p:nvSpPr>
          <p:spPr>
            <a:xfrm>
              <a:off x="4344840" y="175248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1"/>
            <p:cNvSpPr/>
            <p:nvPr/>
          </p:nvSpPr>
          <p:spPr>
            <a:xfrm>
              <a:off x="4332240" y="186048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3314160" y="119844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314160" y="20811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5371560" y="114444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371560" y="20271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6"/>
            <p:cNvSpPr/>
            <p:nvPr/>
          </p:nvSpPr>
          <p:spPr>
            <a:xfrm>
              <a:off x="3735360" y="1525680"/>
              <a:ext cx="2271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7"/>
            <p:cNvSpPr/>
            <p:nvPr/>
          </p:nvSpPr>
          <p:spPr>
            <a:xfrm flipH="1">
              <a:off x="3735000" y="1982880"/>
              <a:ext cx="22716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8"/>
            <p:cNvSpPr/>
            <p:nvPr/>
          </p:nvSpPr>
          <p:spPr>
            <a:xfrm flipH="1">
              <a:off x="5183280" y="1449360"/>
              <a:ext cx="2268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>
              <a:off x="5160960" y="2014560"/>
              <a:ext cx="3031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898560" y="2955960"/>
            <a:ext cx="755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carbono é  hibrido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 O hidrogênio é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ligação da dupla é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 A outra é p -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212760" y="4784760"/>
            <a:ext cx="2454120" cy="1982160"/>
            <a:chOff x="212760" y="4784760"/>
            <a:chExt cx="2454120" cy="1982160"/>
          </a:xfrm>
        </p:grpSpPr>
        <p:sp>
          <p:nvSpPr>
            <p:cNvPr id="393" name="Line 22"/>
            <p:cNvSpPr/>
            <p:nvPr/>
          </p:nvSpPr>
          <p:spPr>
            <a:xfrm>
              <a:off x="1449360" y="624852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7635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>
              <a:off x="21351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14493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212760" y="4784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7"/>
            <p:cNvSpPr/>
            <p:nvPr/>
          </p:nvSpPr>
          <p:spPr>
            <a:xfrm>
              <a:off x="1584360" y="6308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28"/>
          <p:cNvGrpSpPr/>
          <p:nvPr/>
        </p:nvGrpSpPr>
        <p:grpSpPr>
          <a:xfrm>
            <a:off x="1066680" y="4344840"/>
            <a:ext cx="762120" cy="1913040"/>
            <a:chOff x="1066680" y="4344840"/>
            <a:chExt cx="762120" cy="1913040"/>
          </a:xfrm>
        </p:grpSpPr>
        <p:sp>
          <p:nvSpPr>
            <p:cNvPr id="400" name="Line 29"/>
            <p:cNvSpPr/>
            <p:nvPr/>
          </p:nvSpPr>
          <p:spPr>
            <a:xfrm>
              <a:off x="1676520" y="5564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>
              <a:off x="1828800" y="5649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1828800" y="4344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2"/>
            <p:cNvSpPr/>
            <p:nvPr/>
          </p:nvSpPr>
          <p:spPr>
            <a:xfrm>
              <a:off x="1066680" y="4344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33"/>
          <p:cNvGrpSpPr/>
          <p:nvPr/>
        </p:nvGrpSpPr>
        <p:grpSpPr>
          <a:xfrm>
            <a:off x="3412440" y="4959360"/>
            <a:ext cx="1725840" cy="893160"/>
            <a:chOff x="3412440" y="4959360"/>
            <a:chExt cx="1725840" cy="893160"/>
          </a:xfrm>
        </p:grpSpPr>
        <p:sp>
          <p:nvSpPr>
            <p:cNvPr id="405" name="AutoShape 34"/>
            <p:cNvSpPr/>
            <p:nvPr/>
          </p:nvSpPr>
          <p:spPr>
            <a:xfrm>
              <a:off x="3511440" y="4959360"/>
              <a:ext cx="1054080" cy="291960"/>
            </a:xfrm>
            <a:prstGeom prst="rightArrow">
              <a:avLst>
                <a:gd name="adj1" fmla="val 50000"/>
                <a:gd name="adj2" fmla="val 18060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3412440" y="539424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5792760" y="4784760"/>
            <a:ext cx="2122920" cy="1982160"/>
            <a:chOff x="5792760" y="4784760"/>
            <a:chExt cx="2122920" cy="1982160"/>
          </a:xfrm>
        </p:grpSpPr>
        <p:sp>
          <p:nvSpPr>
            <p:cNvPr id="408" name="Line 37"/>
            <p:cNvSpPr/>
            <p:nvPr/>
          </p:nvSpPr>
          <p:spPr>
            <a:xfrm>
              <a:off x="6402240" y="502920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8"/>
            <p:cNvSpPr/>
            <p:nvPr/>
          </p:nvSpPr>
          <p:spPr>
            <a:xfrm>
              <a:off x="57927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9"/>
            <p:cNvSpPr/>
            <p:nvPr/>
          </p:nvSpPr>
          <p:spPr>
            <a:xfrm>
              <a:off x="71643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0"/>
            <p:cNvSpPr/>
            <p:nvPr/>
          </p:nvSpPr>
          <p:spPr>
            <a:xfrm>
              <a:off x="64785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1"/>
            <p:cNvSpPr/>
            <p:nvPr/>
          </p:nvSpPr>
          <p:spPr>
            <a:xfrm>
              <a:off x="7375680" y="4784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42"/>
            <p:cNvSpPr/>
            <p:nvPr/>
          </p:nvSpPr>
          <p:spPr>
            <a:xfrm>
              <a:off x="6391440" y="6308640"/>
              <a:ext cx="63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pt-BR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43"/>
          <p:cNvGrpSpPr/>
          <p:nvPr/>
        </p:nvGrpSpPr>
        <p:grpSpPr>
          <a:xfrm>
            <a:off x="6095880" y="4430880"/>
            <a:ext cx="1371600" cy="1589040"/>
            <a:chOff x="6095880" y="4430880"/>
            <a:chExt cx="1371600" cy="1589040"/>
          </a:xfrm>
        </p:grpSpPr>
        <p:sp>
          <p:nvSpPr>
            <p:cNvPr id="415" name="Line 44"/>
            <p:cNvSpPr/>
            <p:nvPr/>
          </p:nvSpPr>
          <p:spPr>
            <a:xfrm>
              <a:off x="74674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5"/>
            <p:cNvSpPr/>
            <p:nvPr/>
          </p:nvSpPr>
          <p:spPr>
            <a:xfrm>
              <a:off x="6705720" y="4430880"/>
              <a:ext cx="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46"/>
            <p:cNvSpPr/>
            <p:nvPr/>
          </p:nvSpPr>
          <p:spPr>
            <a:xfrm>
              <a:off x="67816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47"/>
            <p:cNvSpPr/>
            <p:nvPr/>
          </p:nvSpPr>
          <p:spPr>
            <a:xfrm>
              <a:off x="60958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75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hibridação sp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H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9810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ino (acetilen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rno dos átomos de C existem dois orbitais híbridos sp e dois orbitais p “pu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dois orbitais híbridos se ligarão através de ligações sigma s-sp (H-C) e sigma sp-sp(C-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dois orbitais p de cada carbono se ligarão produzindo duas ligações pi entre os carbonos (resultando numa tripla ligação entre os dois carbono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a tripl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ma ligaçã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 duas ligaçõ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5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0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0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873360" y="365040"/>
            <a:ext cx="474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órmula estrutural do acetil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2987280" y="1569960"/>
            <a:ext cx="2784960" cy="589680"/>
            <a:chOff x="2987280" y="1569960"/>
            <a:chExt cx="2784960" cy="589680"/>
          </a:xfrm>
        </p:grpSpPr>
        <p:sp>
          <p:nvSpPr>
            <p:cNvPr id="423" name="Rectangle 6"/>
            <p:cNvSpPr/>
            <p:nvPr/>
          </p:nvSpPr>
          <p:spPr>
            <a:xfrm>
              <a:off x="3669120" y="1569960"/>
              <a:ext cx="1393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4183200" y="17524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4169520" y="18604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2987280" y="157968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0"/>
            <p:cNvSpPr/>
            <p:nvPr/>
          </p:nvSpPr>
          <p:spPr>
            <a:xfrm>
              <a:off x="5293080" y="15699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>
              <a:off x="4169520" y="19810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3418200" y="182880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5065200" y="1828800"/>
              <a:ext cx="2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Rectangle 14"/>
          <p:cNvSpPr/>
          <p:nvPr/>
        </p:nvSpPr>
        <p:spPr>
          <a:xfrm>
            <a:off x="495360" y="2193840"/>
            <a:ext cx="816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átomo de carbono é um híbrido 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hidrogênios possuem orbitais 1s, não hibrid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114480" y="3641760"/>
            <a:ext cx="2652120" cy="1982160"/>
            <a:chOff x="114480" y="3641760"/>
            <a:chExt cx="2652120" cy="1982160"/>
          </a:xfrm>
        </p:grpSpPr>
        <p:sp>
          <p:nvSpPr>
            <p:cNvPr id="433" name="Line 16"/>
            <p:cNvSpPr/>
            <p:nvPr/>
          </p:nvSpPr>
          <p:spPr>
            <a:xfrm>
              <a:off x="1450800" y="5105520"/>
              <a:ext cx="65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7"/>
            <p:cNvSpPr/>
            <p:nvPr/>
          </p:nvSpPr>
          <p:spPr>
            <a:xfrm>
              <a:off x="70956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8"/>
            <p:cNvSpPr/>
            <p:nvPr/>
          </p:nvSpPr>
          <p:spPr>
            <a:xfrm>
              <a:off x="219168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9"/>
            <p:cNvSpPr/>
            <p:nvPr/>
          </p:nvSpPr>
          <p:spPr>
            <a:xfrm>
              <a:off x="145080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114480" y="3641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1"/>
            <p:cNvSpPr/>
            <p:nvPr/>
          </p:nvSpPr>
          <p:spPr>
            <a:xfrm>
              <a:off x="1596600" y="5165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22"/>
          <p:cNvGrpSpPr/>
          <p:nvPr/>
        </p:nvGrpSpPr>
        <p:grpSpPr>
          <a:xfrm>
            <a:off x="968400" y="3201840"/>
            <a:ext cx="823680" cy="1913040"/>
            <a:chOff x="968400" y="3201840"/>
            <a:chExt cx="823680" cy="1913040"/>
          </a:xfrm>
        </p:grpSpPr>
        <p:sp>
          <p:nvSpPr>
            <p:cNvPr id="440" name="Line 23"/>
            <p:cNvSpPr/>
            <p:nvPr/>
          </p:nvSpPr>
          <p:spPr>
            <a:xfrm>
              <a:off x="1627560" y="4421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1792080" y="4506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5"/>
            <p:cNvSpPr/>
            <p:nvPr/>
          </p:nvSpPr>
          <p:spPr>
            <a:xfrm>
              <a:off x="179208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6"/>
            <p:cNvSpPr/>
            <p:nvPr/>
          </p:nvSpPr>
          <p:spPr>
            <a:xfrm>
              <a:off x="96840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7"/>
          <p:cNvGrpSpPr/>
          <p:nvPr/>
        </p:nvGrpSpPr>
        <p:grpSpPr>
          <a:xfrm>
            <a:off x="3085200" y="4121280"/>
            <a:ext cx="1725840" cy="893160"/>
            <a:chOff x="3085200" y="4121280"/>
            <a:chExt cx="1725840" cy="893160"/>
          </a:xfrm>
        </p:grpSpPr>
        <p:sp>
          <p:nvSpPr>
            <p:cNvPr id="445" name="AutoShape 28"/>
            <p:cNvSpPr/>
            <p:nvPr/>
          </p:nvSpPr>
          <p:spPr>
            <a:xfrm>
              <a:off x="3192840" y="4121280"/>
              <a:ext cx="1138680" cy="291960"/>
            </a:xfrm>
            <a:prstGeom prst="rightArrow">
              <a:avLst>
                <a:gd name="adj1" fmla="val 50000"/>
                <a:gd name="adj2" fmla="val 19509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9"/>
            <p:cNvSpPr/>
            <p:nvPr/>
          </p:nvSpPr>
          <p:spPr>
            <a:xfrm>
              <a:off x="3085200" y="455616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0"/>
          <p:cNvGrpSpPr/>
          <p:nvPr/>
        </p:nvGrpSpPr>
        <p:grpSpPr>
          <a:xfrm>
            <a:off x="5143680" y="3201840"/>
            <a:ext cx="2239560" cy="2117520"/>
            <a:chOff x="5143680" y="3201840"/>
            <a:chExt cx="2239560" cy="2117520"/>
          </a:xfrm>
        </p:grpSpPr>
        <p:sp>
          <p:nvSpPr>
            <p:cNvPr id="448" name="Line 31"/>
            <p:cNvSpPr/>
            <p:nvPr/>
          </p:nvSpPr>
          <p:spPr>
            <a:xfrm>
              <a:off x="5903640" y="4800600"/>
              <a:ext cx="65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2"/>
            <p:cNvSpPr/>
            <p:nvPr/>
          </p:nvSpPr>
          <p:spPr>
            <a:xfrm>
              <a:off x="5903640" y="38862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3"/>
            <p:cNvSpPr/>
            <p:nvPr/>
          </p:nvSpPr>
          <p:spPr>
            <a:xfrm>
              <a:off x="6809040" y="48006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4"/>
            <p:cNvSpPr/>
            <p:nvPr/>
          </p:nvSpPr>
          <p:spPr>
            <a:xfrm>
              <a:off x="6644520" y="38862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5"/>
            <p:cNvSpPr/>
            <p:nvPr/>
          </p:nvSpPr>
          <p:spPr>
            <a:xfrm>
              <a:off x="7054200" y="41925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6"/>
            <p:cNvSpPr/>
            <p:nvPr/>
          </p:nvSpPr>
          <p:spPr>
            <a:xfrm>
              <a:off x="6313320" y="4202280"/>
              <a:ext cx="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7"/>
            <p:cNvSpPr/>
            <p:nvPr/>
          </p:nvSpPr>
          <p:spPr>
            <a:xfrm>
              <a:off x="705420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623088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9"/>
            <p:cNvSpPr/>
            <p:nvPr/>
          </p:nvSpPr>
          <p:spPr>
            <a:xfrm>
              <a:off x="5143680" y="3641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6048720" y="486108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Rectangle 41"/>
          <p:cNvSpPr/>
          <p:nvPr/>
        </p:nvSpPr>
        <p:spPr>
          <a:xfrm>
            <a:off x="161640" y="5638680"/>
            <a:ext cx="902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e que a tripla ligação  consiste de um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duas ligações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vem dos orbitais p, não hibrid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75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75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Oval 4"/>
          <p:cNvSpPr/>
          <p:nvPr/>
        </p:nvSpPr>
        <p:spPr>
          <a:xfrm rot="19440000">
            <a:off x="6198840" y="360468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5"/>
          <p:cNvSpPr/>
          <p:nvPr/>
        </p:nvSpPr>
        <p:spPr>
          <a:xfrm rot="19440000">
            <a:off x="3607920" y="360468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4649760" y="388620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649760" y="373392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5702400" y="484488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4410000" y="4235400"/>
            <a:ext cx="1435320" cy="757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5826240" y="4224240"/>
            <a:ext cx="570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5702400" y="261612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2"/>
          <p:cNvSpPr/>
          <p:nvPr/>
        </p:nvSpPr>
        <p:spPr>
          <a:xfrm rot="19440000">
            <a:off x="4636800" y="486216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6353280" y="4235400"/>
            <a:ext cx="1434960" cy="757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7010280" y="4459320"/>
            <a:ext cx="95400" cy="303120"/>
            <a:chOff x="7010280" y="4459320"/>
            <a:chExt cx="95400" cy="303120"/>
          </a:xfrm>
        </p:grpSpPr>
        <p:sp>
          <p:nvSpPr>
            <p:cNvPr id="470" name="Line 15"/>
            <p:cNvSpPr/>
            <p:nvPr/>
          </p:nvSpPr>
          <p:spPr>
            <a:xfrm>
              <a:off x="70102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6"/>
            <p:cNvSpPr/>
            <p:nvPr/>
          </p:nvSpPr>
          <p:spPr>
            <a:xfrm>
              <a:off x="71056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Oval 17"/>
          <p:cNvSpPr/>
          <p:nvPr/>
        </p:nvSpPr>
        <p:spPr>
          <a:xfrm>
            <a:off x="3111480" y="484488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8"/>
          <p:cNvSpPr/>
          <p:nvPr/>
        </p:nvSpPr>
        <p:spPr>
          <a:xfrm>
            <a:off x="1819440" y="4235400"/>
            <a:ext cx="1434960" cy="757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3235680" y="4224240"/>
            <a:ext cx="570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3111480" y="261612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21"/>
          <p:cNvGrpSpPr/>
          <p:nvPr/>
        </p:nvGrpSpPr>
        <p:grpSpPr>
          <a:xfrm>
            <a:off x="2438280" y="4459320"/>
            <a:ext cx="95400" cy="303120"/>
            <a:chOff x="2438280" y="4459320"/>
            <a:chExt cx="95400" cy="303120"/>
          </a:xfrm>
        </p:grpSpPr>
        <p:sp>
          <p:nvSpPr>
            <p:cNvPr id="477" name="Line 22"/>
            <p:cNvSpPr/>
            <p:nvPr/>
          </p:nvSpPr>
          <p:spPr>
            <a:xfrm>
              <a:off x="24382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3"/>
            <p:cNvSpPr/>
            <p:nvPr/>
          </p:nvSpPr>
          <p:spPr>
            <a:xfrm>
              <a:off x="25336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Oval 24"/>
          <p:cNvSpPr/>
          <p:nvPr/>
        </p:nvSpPr>
        <p:spPr>
          <a:xfrm rot="19440000">
            <a:off x="2045880" y="486216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25"/>
          <p:cNvSpPr/>
          <p:nvPr/>
        </p:nvSpPr>
        <p:spPr>
          <a:xfrm>
            <a:off x="3762360" y="4235400"/>
            <a:ext cx="1434960" cy="757440"/>
          </a:xfrm>
          <a:prstGeom prst="ellipse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26"/>
          <p:cNvGrpSpPr/>
          <p:nvPr/>
        </p:nvGrpSpPr>
        <p:grpSpPr>
          <a:xfrm>
            <a:off x="4419720" y="4459320"/>
            <a:ext cx="95040" cy="303120"/>
            <a:chOff x="4419720" y="4459320"/>
            <a:chExt cx="95040" cy="303120"/>
          </a:xfrm>
        </p:grpSpPr>
        <p:sp>
          <p:nvSpPr>
            <p:cNvPr id="482" name="Line 27"/>
            <p:cNvSpPr/>
            <p:nvPr/>
          </p:nvSpPr>
          <p:spPr>
            <a:xfrm>
              <a:off x="441972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451476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Line 29"/>
          <p:cNvSpPr/>
          <p:nvPr/>
        </p:nvSpPr>
        <p:spPr>
          <a:xfrm>
            <a:off x="3583080" y="312408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0"/>
          <p:cNvSpPr/>
          <p:nvPr/>
        </p:nvSpPr>
        <p:spPr>
          <a:xfrm>
            <a:off x="3583080" y="327672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3583080" y="586728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3583080" y="601992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2973240" y="518148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4"/>
          <p:cNvSpPr/>
          <p:nvPr/>
        </p:nvSpPr>
        <p:spPr>
          <a:xfrm>
            <a:off x="2973240" y="533412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35"/>
          <p:cNvGrpSpPr/>
          <p:nvPr/>
        </p:nvGrpSpPr>
        <p:grpSpPr>
          <a:xfrm>
            <a:off x="1035000" y="4025880"/>
            <a:ext cx="1054080" cy="1130400"/>
            <a:chOff x="1035000" y="4025880"/>
            <a:chExt cx="1054080" cy="1130400"/>
          </a:xfrm>
        </p:grpSpPr>
        <p:sp>
          <p:nvSpPr>
            <p:cNvPr id="491" name="Oval 36"/>
            <p:cNvSpPr/>
            <p:nvPr/>
          </p:nvSpPr>
          <p:spPr>
            <a:xfrm>
              <a:off x="1035000" y="4025880"/>
              <a:ext cx="1054080" cy="1130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37"/>
            <p:cNvSpPr/>
            <p:nvPr/>
          </p:nvSpPr>
          <p:spPr>
            <a:xfrm>
              <a:off x="1247040" y="4224240"/>
              <a:ext cx="636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Arial Rounded MT Bold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7531200" y="4025880"/>
            <a:ext cx="1054080" cy="1130400"/>
            <a:chOff x="7531200" y="4025880"/>
            <a:chExt cx="1054080" cy="1130400"/>
          </a:xfrm>
        </p:grpSpPr>
        <p:sp>
          <p:nvSpPr>
            <p:cNvPr id="494" name="Oval 39"/>
            <p:cNvSpPr/>
            <p:nvPr/>
          </p:nvSpPr>
          <p:spPr>
            <a:xfrm>
              <a:off x="7531200" y="4025880"/>
              <a:ext cx="1054080" cy="1130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40"/>
            <p:cNvSpPr/>
            <p:nvPr/>
          </p:nvSpPr>
          <p:spPr>
            <a:xfrm>
              <a:off x="7743240" y="4224240"/>
              <a:ext cx="636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Arial Rounded MT Bold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Picture 41" descr=""/>
          <p:cNvPicPr/>
          <p:nvPr/>
        </p:nvPicPr>
        <p:blipFill>
          <a:blip r:embed="rId1"/>
          <a:stretch/>
        </p:blipFill>
        <p:spPr>
          <a:xfrm>
            <a:off x="4610160" y="919080"/>
            <a:ext cx="2365200" cy="706680"/>
          </a:xfrm>
          <a:prstGeom prst="rect">
            <a:avLst/>
          </a:prstGeom>
          <a:ln w="0">
            <a:noFill/>
          </a:ln>
        </p:spPr>
      </p:pic>
      <p:sp>
        <p:nvSpPr>
          <p:cNvPr id="497" name="Line 42"/>
          <p:cNvSpPr/>
          <p:nvPr/>
        </p:nvSpPr>
        <p:spPr>
          <a:xfrm>
            <a:off x="2819520" y="5068800"/>
            <a:ext cx="0" cy="303480"/>
          </a:xfrm>
          <a:prstGeom prst="line">
            <a:avLst/>
          </a:prstGeom>
          <a:ln w="12600">
            <a:solidFill>
              <a:srgbClr val="b2b2b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5429160" y="5068800"/>
            <a:ext cx="0" cy="30348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44"/>
          <p:cNvGrpSpPr/>
          <p:nvPr/>
        </p:nvGrpSpPr>
        <p:grpSpPr>
          <a:xfrm>
            <a:off x="3467160" y="3011400"/>
            <a:ext cx="2743200" cy="303480"/>
            <a:chOff x="3467160" y="3011400"/>
            <a:chExt cx="2743200" cy="303480"/>
          </a:xfrm>
        </p:grpSpPr>
        <p:sp>
          <p:nvSpPr>
            <p:cNvPr id="500" name="Line 45"/>
            <p:cNvSpPr/>
            <p:nvPr/>
          </p:nvSpPr>
          <p:spPr>
            <a:xfrm>
              <a:off x="6210360" y="301140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46"/>
            <p:cNvSpPr/>
            <p:nvPr/>
          </p:nvSpPr>
          <p:spPr>
            <a:xfrm>
              <a:off x="3467160" y="301140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58920" y="549000"/>
            <a:ext cx="53989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1777, Bergman (Torben Olof Bergman), introduziu a expres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MPOSTOS ORGÂ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Bergman, tính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Lan_JohanGadolin"/>
          <p:cNvPicPr/>
          <p:nvPr/>
        </p:nvPicPr>
        <p:blipFill>
          <a:blip r:embed="rId1"/>
          <a:stretch/>
        </p:blipFill>
        <p:spPr>
          <a:xfrm>
            <a:off x="755640" y="549360"/>
            <a:ext cx="2448000" cy="3024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55640" y="3933720"/>
            <a:ext cx="770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COMPOSTOS ORGÂNICOS: Substâncias extraídas dos organismos viv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COMPOSTOS INORGÂNICOS: Substâncias do reino mi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50400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untamente com a distinção proposta por Bergman em 1777, desenvolveu-se a concepção de que um simples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omposto orgânico não poderia jamais ser sintetizado pelo hom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haja visto que para a produção desses compostos seria necessário a existência de "uma força vital" que somente existiria nos organismos v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a idéia, proposta por Jöns Jacob von Berzelius no ano de 1807, deu origem à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eoria da Força Vi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simplesment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vitalism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image?id=69064&amp;rendTypeId=4"/>
          <p:cNvPicPr/>
          <p:nvPr/>
        </p:nvPicPr>
        <p:blipFill>
          <a:blip r:embed="rId1"/>
          <a:stretch/>
        </p:blipFill>
        <p:spPr>
          <a:xfrm>
            <a:off x="6012000" y="333360"/>
            <a:ext cx="2881080" cy="5759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804000" y="6165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erze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160" y="5300280"/>
            <a:ext cx="83055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anato de amônio     +    aquecendo =   Ur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31:38Z</dcterms:created>
  <dc:creator>Cleber</dc:creator>
  <dc:description/>
  <dc:language>en-US</dc:language>
  <cp:lastModifiedBy>.</cp:lastModifiedBy>
  <dcterms:modified xsi:type="dcterms:W3CDTF">2010-03-01T21:13:00Z</dcterms:modified>
  <cp:revision>55</cp:revision>
  <dc:subject/>
  <dc:title>Química orgânica:  os compostos  do carbono</dc:title>
</cp:coreProperties>
</file>